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D36B-C637-410D-B5E0-65974935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920" y="3819240"/>
            <a:ext cx="86421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0D0-B6B2-47F3-BCFA-D0A8F20A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920" y="38192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9280" y="38192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939-173E-4644-8690-416B7FF5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27824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3040" y="1412640"/>
            <a:ext cx="27824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4800" y="1412640"/>
            <a:ext cx="27824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920" y="3819240"/>
            <a:ext cx="27824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3040" y="3819240"/>
            <a:ext cx="27824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4800" y="3819240"/>
            <a:ext cx="27824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AA8-904D-4989-BCB3-438663A9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546E-CB45-4EB2-8C54-7D4D41B1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920" y="1412640"/>
            <a:ext cx="86421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6D8D-236C-490E-AE2A-B50CDA68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B1EC-9632-4D0E-AC9D-3C74485F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2170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70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E649-832F-4643-AEC7-7B65F778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760E-E42E-4B20-B9DC-DAA887C5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7AC1-9972-4C8D-B460-3B39009A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70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0920" y="38192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12C5-D3D8-4D9E-B49D-D9E7134C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920" y="1412640"/>
            <a:ext cx="86421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3444-4ED6-4665-9121-BBF461EF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2170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280" y="38192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4AE5-FE4A-463C-814F-09FA7885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0920" y="3819240"/>
            <a:ext cx="86421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A016-77EB-47A7-AA03-BC148C77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0920" y="3819240"/>
            <a:ext cx="86421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8D0E-26CF-47BA-B6B1-59B7012B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920" y="38192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280" y="38192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1963-31E4-471A-A94B-F399C03B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27824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3040" y="1412640"/>
            <a:ext cx="27824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0" y="1412640"/>
            <a:ext cx="27824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0920" y="3819240"/>
            <a:ext cx="27824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73040" y="3819240"/>
            <a:ext cx="27824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94800" y="3819240"/>
            <a:ext cx="27824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24C3-53ED-4753-A2BC-619CA893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B8E-91C2-440C-9E31-466B9F16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2170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70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B51-384F-4ED3-8BE8-8AB9F643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E63-8A95-4C3D-8F71-57B7393A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5D3-0C46-4201-A495-C3B9E6C4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70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920" y="38192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B76-082C-4344-8D4B-A814B6F5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2170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9280" y="38192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6BC-392A-40D7-8DF9-F3C351F4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21704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3819240"/>
            <a:ext cx="8642160" cy="21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96B2-87DC-499E-86CF-62604844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412640"/>
            <a:ext cx="86421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539640" y="1197000"/>
            <a:ext cx="799308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6DC6-E224-4763-85F4-26CEAC0A18A0}" type="datetime">
              <a:rPr b="0" lang="sk-SK" sz="1200" spc="-1" strike="noStrike">
                <a:solidFill>
                  <a:srgbClr val="000000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11280" y="6244920"/>
            <a:ext cx="597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F63F-D972-4712-B88F-0B8A7E942565}" type="slidenum">
              <a:rPr b="0" lang="sk-S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32720" y="1197000"/>
            <a:ext cx="0" cy="49687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70AB-0E65-4E0C-938B-AC119A64E31D}" type="datetime">
              <a:rPr b="0" lang="sk-SK" sz="1200" spc="-1" strike="noStrike">
                <a:solidFill>
                  <a:srgbClr val="000000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684000" y="6248520"/>
            <a:ext cx="590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4436-C121-485B-AAC4-4D3326EECF18}" type="slidenum">
              <a:rPr b="0" lang="sk-SK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Verdana"/>
              </a:rPr>
              <a:t>Oligopoly a kartely, ich vplyv, správanie a nebezpečenstvá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bora Šablová, Kočibal Andrej, Daniela xyz, Peter Kabá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A33-2F48-4747-92A2-07D8DAB217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Verdana"/>
              </a:rPr>
              <a:t>Oligopoly a kartely, ich vplyv, správanie a nebezpečenstvá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rbora Šablová, Kočibal Andrej, Daniela xyz, Peter Kabá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499-2663-465D-B183-C7B70574DC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una</cp:lastModifiedBy>
  <dcterms:modified xsi:type="dcterms:W3CDTF">2005-11-18T18:23:22Z</dcterms:modified>
  <cp:revision>1</cp:revision>
  <dc:subject/>
  <dc:title>PowerPoint Presentation</dc:title>
</cp:coreProperties>
</file>